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0CF-5001-4153-BEC7-9FBF1300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B53-3E2B-4509-8FAA-9632388B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A7A-F3FE-460C-A873-6CBCC699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1D5-DD63-4595-AD7D-CF26F649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B08-E295-42F5-8CDD-65CDE170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026-CF94-4A83-A4FF-A4FC819E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7B7-3032-4902-8F50-CC5EEA9A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B83-C327-4066-A836-8A0F1BFD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A30-C2D4-466C-8337-4FC5E249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5D9-9B92-413B-A319-17E11B48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6BF-AADE-4A31-B9EF-41E897BF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767-54F2-4202-BD0D-FEF6E261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5357-BBA9-4A83-B212-CFB84E0B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</a:rPr>
              <a:t>Trace Evi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vidence = transfe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that are transferred from one person or place to another person o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s, fibers, glass, soil, and 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microscopic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direc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erials directly from the crime scene to a person o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if you own a cat, there is direct transfer of cat hair from the cat to your cl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ary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erials from the object or person from the crime scene to a new object or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burglar robs the house with a cat – cat hair will cling to burglar’s clothing – the cat hair will then be transferred to burglar’s getaway c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Is NOT On  Your S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nger the time since the initial contact, the more the evidence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not permanent, it is easily ex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 evidence usually involves comparing samples to determine a commo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trol sample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empl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at are from a known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Ge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application of earth sciences to legal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, analyzes, and compares earth materials such as soils, rocks, minerals, and fossils on or in a receptor to possible sourc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Ge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08 -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cumented case credited to Georg Popp of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both criminal and civi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o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is a mixture of minerals, organic material, botanical and animal products and debris, and anthropogenic (human-made)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0:56:34Z</dcterms:created>
  <dc:creator>bpalme</dc:creator>
  <dc:description/>
  <dc:language>en-US</dc:language>
  <cp:lastModifiedBy>bpalme</cp:lastModifiedBy>
  <dcterms:modified xsi:type="dcterms:W3CDTF">2005-10-17T11:07:05Z</dcterms:modified>
  <cp:revision>2</cp:revision>
  <dc:subject/>
  <dc:title>Trace Evidence</dc:title>
</cp:coreProperties>
</file>